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4C58-C41F-435D-BA17-B6DF4A35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FA88-8464-4BA1-BEDF-9440B762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9666-78FA-4CFC-8805-A79DB5D6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CD89-4466-4DE4-81F1-BE218B2C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B11A-1201-4ADD-9F41-67E5B73E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2EE0-B68B-4799-B4E7-42617E1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C9A7-FE14-4207-AF0C-A8EECFFF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7921-9380-49C9-A56E-A9160B55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752F-85FE-423E-AC51-E6277C6F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5878-E569-44F5-9A60-2A523105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3633-9C79-4765-AE29-4EF2FA82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93E6-D0DC-452A-A383-E65DB134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E49D-76C2-4D0C-B3E7-09092675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0FFC-71ED-47E7-BAE2-24D14A6D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4307-3DF5-4548-BF86-63FD9A89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A27A-01E7-4345-86E2-484B28C0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F8F9-6AFE-456D-813D-28B31025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4D03-3836-4DD0-95DC-113E9AA0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C10A-7595-4AF9-934D-17D5CC48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63FB-DD9A-4AD9-BE51-1B4436D4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CB7D-B365-4CF0-B590-5C83E168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BEB1-2A69-43B9-A5D8-B73EC03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AFDB-3E3F-4F35-961E-5886E80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EFFC-7100-4351-92FC-1F2E7FE7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B16B-60EA-4C5A-A4A3-F1DC0573E44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F5AF-564F-4E75-B405-D28D6CA2086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9152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2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ази ме, Божи Агнец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Своята стран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шата ми при Теб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мира мир, хра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ичък срещам примки и изкушения вред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против мен са всич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раг, и грешний св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1183680"/>
            <a:ext cx="925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Ей, само с Твойта помощ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мога да търпя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кар и слаб, и в немощ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рез Теб ще побед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агът ще бяга срам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Твоето лице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носи ме веч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воите ръц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видя скоро в сл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бляс'к лицето 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маян и в уди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Твоите хубос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ази слава, Бож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войта крас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а кой ли мож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има във свет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87912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ъв Твоя рай чудес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гледам Твоя лик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я нова пес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ангелски ези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та любов и сл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рението 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вечно ще възпя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ияйни висоти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10:53Z</dcterms:modified>
  <cp:revision>70</cp:revision>
  <dc:subject/>
  <dc:title>Slide 1</dc:title>
</cp:coreProperties>
</file>